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EFD-CBD7-4E3D-BB90-A0B2BCB2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A36-F91C-4A40-B0DB-01F0D5D4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0BC-2FFF-4D10-B153-174D50E1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F5E-5372-43CC-9CC7-0FB5B5DE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8F8-8E9F-402C-A194-5028C2A6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EB53-53F9-4F25-8208-010512F4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039B-97B2-4E40-978B-71245B17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5EE-F14E-4358-993F-F6AF0B0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7032-3E42-4FF4-A281-0BCCF94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15D1-AEB0-413F-BB60-E0C97C90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9866-656D-47AF-9AEE-4A17030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065-68A4-46A8-B11F-CA8090EE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A9A0-253D-4B99-B8D4-54390BF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9E32-3FED-4D2E-B18B-6FFD4DDB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140E-77F9-4938-AF0B-934C4208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EBFD-7C6D-48CA-9622-9518F373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E9EF-1ABF-40CF-94AE-8FA65CB5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370-FCA6-4C2A-9C98-5E681CC8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440-643D-45F3-86C6-35224D8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2EC-D3B9-4EF6-848B-363EFD40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42D-E855-4E77-8603-75049BFE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025-3BCA-4271-8C1C-E147F5F0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90B-113C-45EB-AE3B-7144CAB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DF1-0F47-49C9-BA66-85506EB7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71A1-268E-4E26-9623-D2F629CBF5F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037-2BC5-4D28-B541-CE0CE087B2A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053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cc"/>
                </a:solidFill>
                <a:latin typeface="Arial Narrow"/>
              </a:rPr>
              <a:t>L’insegnamento </a:t>
            </a:r>
            <a:br>
              <a:rPr sz="6000"/>
            </a:br>
            <a:r>
              <a:rPr b="1" lang="it-IT" sz="6000" spc="-1" strike="noStrike">
                <a:solidFill>
                  <a:srgbClr val="ffffcc"/>
                </a:solidFill>
                <a:latin typeface="Arial Narrow"/>
              </a:rPr>
              <a:t>della lingua straniera </a:t>
            </a:r>
            <a:br>
              <a:rPr sz="6000"/>
            </a:br>
            <a:r>
              <a:rPr b="1" lang="it-IT" sz="6000" spc="-1" strike="noStrike">
                <a:solidFill>
                  <a:srgbClr val="ffffcc"/>
                </a:solidFill>
                <a:latin typeface="Arial Narrow"/>
              </a:rPr>
              <a:t>nella sperimentazione della Riforma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3809520"/>
            <a:ext cx="4419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Maria Anna Burgn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iabur@tiscali.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447920" y="63244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32265" y="10800"/>
                </a:moveTo>
                <a:lnTo>
                  <a:pt x="21760" y="17806"/>
                </a:lnTo>
                <a:lnTo>
                  <a:pt x="21760" y="3794"/>
                </a:lnTo>
                <a:close/>
              </a:path>
              <a:path fill="darken" w="57532" h="21600">
                <a:moveTo>
                  <a:pt x="34110" y="3794"/>
                </a:moveTo>
                <a:lnTo>
                  <a:pt x="34110" y="17806"/>
                </a:lnTo>
                <a:lnTo>
                  <a:pt x="35773" y="17806"/>
                </a:lnTo>
                <a:lnTo>
                  <a:pt x="3577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A5EF-6A32-4DDE-B7F4-DD117022BA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a formazione (2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suo fine è costituire laboratori di Ricerca Azione dove verificare i contenuti innovativi della ri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È un modello formativo di e-learning integrato che prevede l’alternanza e l’interrelazione tra itinerari di formazione a distanza ed in prese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a come obiettivi complementa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il miglioramento delle competenze linguistich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lo sviluppo delle competenze metodologico-didattiche, connesse all’apprendimento della LS nella fascia d’età di 4-7 ann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0A1-5E67-47E9-A8A7-16AF537E6E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a formazione (3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la promozione di un atteggiamento sperimentale e l’attivazione di pratiche riflessiv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ad es. problematizzazione delle esperienze, definizione in team delle ipotesi progettuali, validazione 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lsificazione delle ipotesi in situazione didattica, documentazione dei percorsi, controllo dei processi e dei risultat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lo sviluppo delle capacità di osservazione, interpretazione, documentazione e controllo delle proprie prassi didattiche e dei processi di insegnamento/apprendi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(V. Scheda 2 allegata a </a:t>
            </a:r>
            <a:r>
              <a:rPr b="0" i="1" lang="it-IT" sz="1200" spc="-1" strike="noStrike">
                <a:solidFill>
                  <a:srgbClr val="ffffff"/>
                </a:solidFill>
                <a:latin typeface="Arial"/>
              </a:rPr>
              <a:t>La formazione in servizio rivolta ai docenti di Lingu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Arial"/>
              </a:rPr>
              <a:t>Comunitaria della scuola dell’infanzia e primaria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, M.I.U.R., Roma, 200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562720"/>
            <a:ext cx="761760" cy="53316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0855" h="21600">
                <a:moveTo>
                  <a:pt x="9901" y="3985"/>
                </a:moveTo>
                <a:lnTo>
                  <a:pt x="16898" y="3985"/>
                </a:lnTo>
                <a:lnTo>
                  <a:pt x="20954" y="7484"/>
                </a:lnTo>
                <a:lnTo>
                  <a:pt x="20954" y="17615"/>
                </a:lnTo>
                <a:lnTo>
                  <a:pt x="9901" y="17615"/>
                </a:lnTo>
                <a:close/>
              </a:path>
              <a:path fill="darken" w="30855" h="21600">
                <a:moveTo>
                  <a:pt x="16898" y="3985"/>
                </a:moveTo>
                <a:lnTo>
                  <a:pt x="20954" y="7484"/>
                </a:lnTo>
                <a:lnTo>
                  <a:pt x="16898" y="74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AF7-C242-4045-A523-92E950C061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a formazione (4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zione 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dedicata in via prioritaria ai docenti sperimentatori. Essa preve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mazione linguistica on line per 3 mesi (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English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Tow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 con il supporto anche di  RAI Educat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rso intensivo estivo all’estero (Comenius 2.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duli in prese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ertificazione delle competenze linguistiche raggiunte alla fine del percorso personalizzato (da parte di un Ente est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8F0-CA77-4611-8A3F-082BB10FEE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a formazione (5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zione 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per sviluppare/potenziare le competenze metodologico-didattiche dei docenti di Inglese della scuola dell’infanzia e primaria. Essa preve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segmenti sincron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(conversazioni, chat e forum tematici) per i docenti sperimentatori che seguono l’azione 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segmenti asincron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(forum tematici, materiali didattici, case study, risorse bibliografiche e sitografiche, …), destinati progressivamente a tutti i docenti di Ingle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B1D-4B59-48D1-A16D-84B438E1B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Formazione per i docenti sperimentator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urata complessiva: 40 ore (equivalente a 30 crediti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lore attività on 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 corso = 5 credi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 laboratorio = 5 credi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 forum = 3 credi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egistro elettronico e cartaceo; alla fine va stampato ed inserito nel Portfolio del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4B9-DDEA-4DD5-91A8-459809F6B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Incontri in presenz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ità tra pari di riflessione sui materiali on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ità di progettazione e predisposizione di strumenti di osservazione, valutazione e orient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ità di sviluppo / consolidamento delle reti tra scu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lorizzazione delle specificità territoria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67E-8D96-4615-A8D4-5700BDF00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Gruppo sperimentatori FVG:</a:t>
            </a:r>
            <a:br>
              <a:rPr sz="4800"/>
            </a:b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eterogeneo e rappresentativ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terogeneità a livello scolastico (scuole statali e paritarie, scuole con lingua di insegnamento slovena e scuole con lingua di insegnamento italiana, scuole di città e di montagna, scuole/classi grandi e piccol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terogeneità a livello individuale (docenti di diversa provenienza e con diverse esperienz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834-6872-4077-8A35-CE024CDBB7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Primi elementi emers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evalenza insegnamento Inglese nella I classe della scuola primar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evalenza insegnante specialist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fferenza nel numero e nella durata degli interventi settimanal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fferenza nella consistenza delle classi / dei gruppi di alun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D69-2974-4B0B-960A-9DCB91E662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LS nei documenti ministeriali della Riforma (finalità, approccio metodologico, attività di laboratorio, ec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 indicazioni ministeriali del passato e del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formazione dei docenti sperimentatori nell’anno scolastico 2002-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ruppo docenti e scuole della sperimentazione nel  FV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D04-523C-43BE-A620-BBF45757C5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’insegnamento della 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Finalità: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ollecitare la flessibilità cognitiva e sostenere lo sviluppo del linguaggio in gener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pproccio olistic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insegnamento della LS: occasione per riscrivere tutta l’esperienza d’apprendim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S inserita in un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mbiente di apprendimen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ove, con spontaneità e neutralità, partendo dall’esperienza dei bambini, si fanno operazioni contrastive/aggiuntive, ma sempre spontanee, di costruzione della semantica, della sintassi, della pragmatica della 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6324480" y="61722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23476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21630" y="3794"/>
                </a:lnTo>
                <a:lnTo>
                  <a:pt x="21630" y="17806"/>
                </a:lnTo>
                <a:lnTo>
                  <a:pt x="19968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315200" y="61722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30473" y="10800"/>
                </a:moveTo>
                <a:lnTo>
                  <a:pt x="19968" y="17806"/>
                </a:lnTo>
                <a:lnTo>
                  <a:pt x="19968" y="3794"/>
                </a:lnTo>
                <a:close/>
              </a:path>
              <a:path fill="darken" w="53949" h="21600">
                <a:moveTo>
                  <a:pt x="32319" y="3794"/>
                </a:moveTo>
                <a:lnTo>
                  <a:pt x="32319" y="17806"/>
                </a:lnTo>
                <a:lnTo>
                  <a:pt x="33981" y="17806"/>
                </a:lnTo>
                <a:lnTo>
                  <a:pt x="33981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8FD-033E-4040-BE0C-906933C951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’insegnamento della LS (2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indi la LS non deve essere qualcosa di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aggiun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ma si deve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connettere spontaneament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 l’italiano, la matematica, la storia, ecc. Le varie discipline, infatti, corrispondono a diversi modi di leggere l’esperienza, da punti di vista ovviamente specifi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 situazioni di apprendimento di LS devono essere caratterizzate dalla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global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dal coinvolgimento emotivo ed affettivo, oltre che dalla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significativ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ell’apprendimento propo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FB0-9106-4558-8E65-39806F2A91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’insegnamento della LS (3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rodurre gradatamente i bambini alle discipline, e quindi alla LS, significa aiutarli a passare, senza forzature, dal proprio modo di leggere le esperienze ad una modalità di lettura delle stesse che sia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 intersoggettiva e condivi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F40-CB11-4DF9-80CC-D62048CE28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Il laboratori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n è uno spazio fisico attrezz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È una modalità didattica, un approccio di lavoro interrelato con la quotidianità (quindi non va separato dal rest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È una situazione di apprendimento che coniuga conoscenze e abilità specifiche su compiti unitari e significativi per gli alunni, possibilmente in una dimensione operativa e progettu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152-EF4F-4EBB-B670-02F6C85223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Il laboratorio (2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È per sua natura temporan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lteplici sono le tipologie possibili di laboratorio: per interesse, per livello, di potenziamento, di recupero su un’abilità specifica, ec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laboratorio di Inglese può essere un’occasione per scoprire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l’unità e la compless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el reale attraverso un’altra lin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1C3-E30E-46B2-97D7-E92731D358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Quale continuità?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.P.R. 12.2.1985, n. 104: finalità, indicazioni didatti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.M. 28.6.1991: classe di avvio, numero ore settimanali, lingue straniere insegnabi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getto Lingue 2000: numero ore annuali, insegnamento precoce, organizzazione per gruppi,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duli,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Quadro Comune Europeo di Riferimento per le lingue,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Portfolio Europeo delle Lingu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6934320" y="304920"/>
            <a:ext cx="761760" cy="30456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7" h="21600">
                <a:moveTo>
                  <a:pt x="23495" y="10800"/>
                </a:moveTo>
                <a:lnTo>
                  <a:pt x="34000" y="3794"/>
                </a:lnTo>
                <a:lnTo>
                  <a:pt x="34000" y="17806"/>
                </a:lnTo>
                <a:close/>
              </a:path>
              <a:path fill="darken" w="53987" h="21600">
                <a:moveTo>
                  <a:pt x="19987" y="3794"/>
                </a:moveTo>
                <a:lnTo>
                  <a:pt x="21650" y="3794"/>
                </a:lnTo>
                <a:lnTo>
                  <a:pt x="21650" y="17806"/>
                </a:lnTo>
                <a:lnTo>
                  <a:pt x="19987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A90-2A8A-4C96-BD90-C4A2C6558F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a formazione dei docent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pportunità di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sviluppo professional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nell’ambito dell’intero iter lavorativo, finalizzata ad integrare le esperienze e le competenze esistenti nel nuovo quadro speriment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mazione come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process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in cui sono fondamentali la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condivisione 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corresponsabil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el percorso di formazione da parte del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6629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23507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  <a:path fill="darken" w="54013" h="21600">
                <a:moveTo>
                  <a:pt x="20000" y="3794"/>
                </a:moveTo>
                <a:lnTo>
                  <a:pt x="21662" y="3794"/>
                </a:lnTo>
                <a:lnTo>
                  <a:pt x="21662" y="17806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772400" y="3049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3" h="21600">
                <a:moveTo>
                  <a:pt x="30505" y="10800"/>
                </a:moveTo>
                <a:lnTo>
                  <a:pt x="20000" y="17806"/>
                </a:lnTo>
                <a:lnTo>
                  <a:pt x="20000" y="3794"/>
                </a:lnTo>
                <a:close/>
              </a:path>
              <a:path fill="darken" w="54013" h="21600">
                <a:moveTo>
                  <a:pt x="32350" y="3794"/>
                </a:moveTo>
                <a:lnTo>
                  <a:pt x="32350" y="17806"/>
                </a:lnTo>
                <a:lnTo>
                  <a:pt x="34013" y="17806"/>
                </a:lnTo>
                <a:lnTo>
                  <a:pt x="34013" y="37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dine, 8.4.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4BD-5876-4BF7-A761-4B944FE1D8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llo</cp:lastModifiedBy>
  <dcterms:modified xsi:type="dcterms:W3CDTF">2003-05-29T09:59:23Z</dcterms:modified>
  <cp:revision>72</cp:revision>
  <dc:subject/>
  <dc:title>Presentazione di PowerPoint</dc:title>
</cp:coreProperties>
</file>